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9B47-D7A0-422B-B6A9-181690B7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520A-384D-4ED9-9F46-EE65E013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1AD-345C-46DC-8816-D05EE344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625-650C-42A2-A168-B0D74B4C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D36-7C4C-4BE1-9F26-596FFE5A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150-CD0B-4D52-A7C4-B4AA7A71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F2B-CB3C-4AA8-858B-48AF83B2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4D4-7BD9-4410-BBE9-7CD781F8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37F7-774B-4CC2-8D81-4B198DF1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9A2-34D8-4784-A395-877AE949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E0A-2BA1-433A-A1C6-40207164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99D-D6D5-4F40-B8E5-35F15BEA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3BFB-00C7-4198-A5D5-D3CEBE882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38400" y="2525760"/>
            <a:ext cx="84247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EMA CON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74920" y="3529080"/>
            <a:ext cx="28796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ENI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9:54:43Z</dcterms:created>
  <dc:creator>cgiovanny</dc:creator>
  <dc:description/>
  <dc:language>en-US</dc:language>
  <cp:lastModifiedBy>cgiovanny</cp:lastModifiedBy>
  <dcterms:modified xsi:type="dcterms:W3CDTF">2006-09-14T14:24:54Z</dcterms:modified>
  <cp:revision>3</cp:revision>
  <dc:subject/>
  <dc:title>Diapositiva 1</dc:title>
</cp:coreProperties>
</file>