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968-BEA8-4BC0-AAF4-5184FAA5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5A8F-9799-489D-8D53-3D9048D1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D1D-CFD0-4A21-ABF5-3958234E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EA8-6D68-4487-8A1B-8D135158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3888-0D7D-439D-994B-2B42D002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4FE5-C5B6-494C-9D16-B099EF94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AC80-250F-4D5D-A7D7-B0E5EBEB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C074-95C7-4B56-9977-B73C7461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8BFE-BCA0-495E-960B-03354B39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FBB5-007A-42E0-B636-A3515227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D038-04F2-445C-BC4A-1DAAF257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C49-5681-402D-B06A-C803D829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ABC5-677B-49B6-88DB-E4272C94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A34E-252F-4A1E-93DC-ACFE6A79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1EEC-323E-4394-8656-AB4BE8EA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B255-4428-4AF5-9929-41B231AF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5887-A883-48EF-87D6-2CD95F05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A42-6E75-4164-B743-74495908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A6CD-7A18-4538-9720-DA224921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0C3-8648-42B0-8C4B-41FDCAF2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607-367F-4487-96AA-C0F39523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1F6-3E98-4898-BC01-AB10F7B0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C36-A832-465F-8D82-31F42716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89A-FC3F-4709-9B22-144416B3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9798-4164-4B00-BAC2-75B39B446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37F4-2426-42EF-98B1-E6240A7BF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3440" y="2997360"/>
            <a:ext cx="6983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C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6-10-17T13:50:39Z</dcterms:modified>
  <cp:revision>1</cp:revision>
  <dc:subject/>
  <dc:title>Diapositiva 1</dc:title>
</cp:coreProperties>
</file>