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5833-0E23-482E-A4F8-CCB7655A8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E562-AF0D-40B6-873E-E2D62360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3E11-0EC1-483A-ABDB-082372985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5585-6471-4AF5-8D24-3C4F553A3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00A7-C3FE-4876-9485-3F4A68D0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1ADC-B8EB-4209-883E-05DE6417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9DC7-BBA3-4E37-AE3F-3504F79B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20C8-1505-4B20-AEC0-C0A6A3B0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1668-5247-458F-8D7C-B1173449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A10A-C7A1-4A25-A930-A17F99DA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9A03-44D1-49EE-BB09-B4718582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6BB0-9939-480B-8E33-4EFCE967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65F1-1A03-4CCF-89F3-1BD72F3B3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38400" y="2525760"/>
            <a:ext cx="842472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SISTEMA CONTAB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274920" y="3529080"/>
            <a:ext cx="287964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FENI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9:54:43Z</dcterms:created>
  <dc:creator>cgiovanny</dc:creator>
  <dc:description/>
  <dc:language>en-US</dc:language>
  <cp:lastModifiedBy>cgiovanny</cp:lastModifiedBy>
  <dcterms:modified xsi:type="dcterms:W3CDTF">2006-09-14T14:24:54Z</dcterms:modified>
  <cp:revision>3</cp:revision>
  <dc:subject/>
  <dc:title>Diapositiva 1</dc:title>
</cp:coreProperties>
</file>