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A7F9-B385-4680-BED4-FB943BE18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BC5D-B04A-4877-88BE-47DA5A4D2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FCBE-596A-41FF-9A4B-5FD716259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055B-E99F-42FB-B27D-E06647CD7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F49A3-1025-40B6-8F41-82C373EAC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30569-E879-44D3-B360-501C1F315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B59B8-3B6E-4C82-AD66-98E39CE07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C0F23-A9F4-425A-AE60-ECE0B0B8C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90894-711E-437D-9BAE-E7CAB816A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0A045-B5BE-455C-900E-99DCB2768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2001E-3C9A-4CC3-B569-EB9D2D8A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A733-EE84-438E-941F-24B4FC8B9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13093-C233-4A0F-8D7D-3384ACEC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FC06D-FC4A-488F-900A-4A7EA0A0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94EF7-BAC8-44EE-B5CF-CE9626042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E75DC-F3C2-469C-A483-7681F9167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47567-D6A4-4EBD-B09A-CEBC3F36A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2178-447E-4E77-B4EB-583B2F669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19E7-5F35-4FBB-8A5C-8795E2E03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01F8-911A-43E2-BBDD-4727ECD5F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FA85-BF3B-455A-A9A9-37FD51268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F45C-2D7B-4851-A994-F0F8F91B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1C85-0094-429A-AB4D-09899DEC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A42A-AC88-470F-AA3B-C1BF29C6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E954C-320B-4131-AE8C-6036AC0E53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5F8DA-6353-4546-BD5D-2B730FDCA0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79280" y="189000"/>
            <a:ext cx="547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DC Sistemas - Modulo Contabilida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556000" y="1079640"/>
            <a:ext cx="86364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13:49:23Z</dcterms:created>
  <dc:creator>cgiovanny</dc:creator>
  <dc:description/>
  <dc:language>en-US</dc:language>
  <cp:lastModifiedBy>cgiovanny</cp:lastModifiedBy>
  <dcterms:modified xsi:type="dcterms:W3CDTF">2007-05-23T16:50:10Z</dcterms:modified>
  <cp:revision>8</cp:revision>
  <dc:subject/>
  <dc:title>Diapositiva 1</dc:title>
</cp:coreProperties>
</file>