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71F-F81B-4500-A920-4AA51743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2E08-0D26-419B-8EC2-82B0275A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7B0C-53E1-4166-AA9F-BE222388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3BBE-6D7F-4E5B-8DBC-AB4222BB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9BC-0691-41BE-8761-7C44A9D0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D4B-C41B-4B5E-8A11-9773DA48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2137-D971-4D90-969C-E7C03401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E9F-65B5-488E-B3B3-42F16FF3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F626-F16B-4863-B67F-2D9510A7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66EF-1B15-488D-B6F5-AC1D9E7F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262D-B504-46DF-8C7A-8952B1D2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BE9D-6F21-464B-90F4-03D406BC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924C-5263-4823-9147-3980E7D09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38400" y="2525760"/>
            <a:ext cx="84247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EMA CONT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74920" y="3529080"/>
            <a:ext cx="28796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FENI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9:54:43Z</dcterms:created>
  <dc:creator>cgiovanny</dc:creator>
  <dc:description/>
  <dc:language>en-US</dc:language>
  <cp:lastModifiedBy>cgiovanny</cp:lastModifiedBy>
  <dcterms:modified xsi:type="dcterms:W3CDTF">2006-09-14T14:24:54Z</dcterms:modified>
  <cp:revision>3</cp:revision>
  <dc:subject/>
  <dc:title>Diapositiva 1</dc:title>
</cp:coreProperties>
</file>