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A53-03B5-414E-A9FE-181E3D1C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BA9-555A-41B1-983C-B2BAE007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F3C-DDFE-496F-BC7D-0463713B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72B-570D-4D1E-92DE-A3C52F0B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1A84-3DD4-41F7-BB1A-6BA53841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7068-0FE3-4413-9EBC-68DC03EB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8144-9125-4431-B70E-906E392C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3648-1CC6-41CA-9541-0DD5C2ED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007B-4F27-45AA-B29B-C09524BF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B3C9-D576-45E3-A930-0A73F9FF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1810-C5B0-4A20-BA99-C20DB0B7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CFA-1965-4328-9EE6-0BB23721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B30C-358C-426F-971D-A6738CD3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5876-178F-45D4-94C2-674F87EB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CD47-049B-4B68-91E3-B57A2D5E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202C-4746-4793-A787-3968BAFA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8B03-6775-470A-B2A1-32FCA4A7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2B73-EAE1-40FC-81F5-0DF43AB9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FED-B9B3-4B05-9C2D-43BF78C5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6E3-0680-4258-BEA9-7327602D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E07-5CB0-449D-9D9D-DA2D7B19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20E-25CB-4F56-991B-440CB0CC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FB0-EEBF-46CC-813A-790E73C7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FF3-7CA9-4B23-8719-2D17B987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6B00-A571-452A-BF97-1B584DC17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FD09-B33D-49ED-B973-A91EA782A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3440" y="2997360"/>
            <a:ext cx="6983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C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6-10-17T13:50:39Z</dcterms:modified>
  <cp:revision>1</cp:revision>
  <dc:subject/>
  <dc:title>Diapositiva 1</dc:title>
</cp:coreProperties>
</file>